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10290"/>
        <c:axId val="36541899"/>
      </c:barChart>
      <c:catAx>
        <c:axId val="383102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1899"/>
        <c:crosses val="autoZero"/>
        <c:auto val="1"/>
        <c:lblAlgn val="ctr"/>
        <c:lblOffset val="100"/>
        <c:noMultiLvlLbl val="0"/>
      </c:catAx>
      <c:valAx>
        <c:axId val="36541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102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339-BC89-42A1-96DA-C30EB965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405-4B86-499C-9FE7-AE0DE2EC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99C-E918-4FB7-8F18-1C591D2B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10A-CCA4-4333-A505-BF0C56D0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423-543C-45D8-A876-96A1571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D82-7760-4C6F-BB42-E6AC07C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8AF-F897-4288-BF29-F9EF33F3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662-22AE-433D-9A8B-3FBCCA0E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05E-32BB-475F-B669-A305D147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D3D-B3F5-419B-8BBE-1801F6A9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F82-9576-443F-B454-43AF3B2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221-D052-4E83-B9C8-E14CE53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ED5FF-21D4-4B1C-8260-C5BBCD8D4D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