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45945"/>
        <c:axId val="58279427"/>
      </c:barChart>
      <c:catAx>
        <c:axId val="84245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79427"/>
        <c:crosses val="autoZero"/>
        <c:auto val="1"/>
        <c:lblAlgn val="ctr"/>
        <c:lblOffset val="100"/>
        <c:noMultiLvlLbl val="0"/>
      </c:catAx>
      <c:valAx>
        <c:axId val="58279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45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A94-6F04-4682-9593-EE44A7EE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E03-728A-40DE-9032-02ABE1CC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0F1-D1AE-4E89-8531-C8841986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EB7-E9E8-418C-AB1A-F46D5BEB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5D8-D789-4F8E-A62A-53A62112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F76-593A-42F3-BF0D-9FD01CEB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47C-1A06-4069-876D-81CA687A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A4A-C2DA-4B7D-87E6-68C1AF63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48E-7D2E-4778-B796-B1C57D0D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CC6-F44C-4935-9989-93FD562C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014-01EC-40EF-A94D-80E8D0B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443-23BB-408E-B40B-F2208B7C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26AC5-8CD8-4036-8FFF-2CAB2E7F65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