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250558"/>
        <c:axId val="8503487"/>
      </c:barChart>
      <c:catAx>
        <c:axId val="21250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3487"/>
        <c:crosses val="autoZero"/>
        <c:auto val="1"/>
        <c:lblAlgn val="ctr"/>
        <c:lblOffset val="100"/>
        <c:noMultiLvlLbl val="0"/>
      </c:catAx>
      <c:valAx>
        <c:axId val="8503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50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0E7-15A0-456B-A29C-421F9E90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87EB-8CD4-468F-AD0B-19FF7CF0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83AF-5277-4B9E-A4F0-E3BECAB4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EC7B-BB20-4001-B1A2-E85BFFCF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781-103D-4911-9E96-928DF732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CEA-E579-4783-BD55-ADA7512F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18D-E8AA-4FEC-B4EB-F3B30659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6861-AF0D-40C4-A08C-4E48CE21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DED0-FECF-4454-B58F-BB27F896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B589-526A-40F8-80EE-D1761D76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19BE-6582-4994-8C52-D315F90F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61B-2CE5-4EF8-9944-CFF17E23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ADD87-A404-4F0E-A5C5-A02FB80E5A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