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84977"/>
        <c:axId val="87543804"/>
      </c:barChart>
      <c:catAx>
        <c:axId val="68684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43804"/>
        <c:crosses val="autoZero"/>
        <c:auto val="1"/>
        <c:lblAlgn val="ctr"/>
        <c:lblOffset val="100"/>
        <c:noMultiLvlLbl val="0"/>
      </c:catAx>
      <c:valAx>
        <c:axId val="87543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84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641-DDD8-48B0-85C4-8B20A92F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353-05E1-448A-AD59-708A2DA3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1C7-F870-4972-B632-D5C710C9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127-7D95-43B2-A206-954407C0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DDF-BA63-4DA2-8051-16274DB1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C9E-FA48-47EC-9916-0CC6D2C7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C49-F88D-463B-B3D1-22AF5740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7B9-25D7-426C-B81A-BEB01471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C52-18A9-444A-9787-8A1BCBC1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53E-501A-4B2D-88F7-BBAFF30D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FFB-1E51-4F8B-B43B-E13C7B4D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CD5-2483-4ADE-AF0E-DDFF0AC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0D6A4-AD13-4F8A-99AD-BD8F91EF75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