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06497"/>
        <c:axId val="37289777"/>
      </c:barChart>
      <c:catAx>
        <c:axId val="30906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89777"/>
        <c:crosses val="autoZero"/>
        <c:auto val="1"/>
        <c:lblAlgn val="ctr"/>
        <c:lblOffset val="100"/>
        <c:noMultiLvlLbl val="0"/>
      </c:catAx>
      <c:valAx>
        <c:axId val="37289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6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21C-9CE3-4F8A-A676-41DB1825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A61-576B-43B8-A7E0-7101CF7C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332-A667-42D7-AACF-14A4B4E5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FED-F44B-4988-99A6-8CD02AA1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62F-C272-49F8-8290-C7CAA63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188-4FE4-4322-BF4B-D779C00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102-EBA9-47F9-A2C4-81C87AAB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B10-5B4E-4408-BC86-E92ADC6F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4A1-4739-44DC-A58F-140AD5B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9EB-FA7B-4A52-8192-A22A37BE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C47-6091-4440-AB73-0BF28BB8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232-B6C6-42B7-9D34-69FD77F2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3082E-8444-4159-A743-EBD6D95C4E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