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54567"/>
        <c:axId val="20689365"/>
      </c:barChart>
      <c:catAx>
        <c:axId val="52354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9365"/>
        <c:crosses val="autoZero"/>
        <c:auto val="1"/>
        <c:lblAlgn val="ctr"/>
        <c:lblOffset val="100"/>
        <c:noMultiLvlLbl val="0"/>
      </c:catAx>
      <c:valAx>
        <c:axId val="20689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4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BCF-C526-46CB-9044-EB67C8F3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17F-4FD9-417B-A151-4430906B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1CA-59A3-4AA3-B3F6-A18877D9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F0D-E2D9-4856-91B1-05AE0FE7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B5C-5563-48A5-8F9F-F4AD5AF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107-0973-4216-A69B-0F06E8F1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29E-5001-47A7-9F91-D5C571E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8A1-AD30-49E8-9764-6565C440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D65-ACD8-493B-9456-AE9AC7B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83D-7C01-42B2-B1FD-AC53D72C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138-D347-411B-8465-9405F9A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A3F-2115-43E0-BAF1-3EA1561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AF003-D082-4D86-868D-ED00875C5A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