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85775"/>
        <c:axId val="26323826"/>
      </c:barChart>
      <c:catAx>
        <c:axId val="10885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323826"/>
        <c:crosses val="autoZero"/>
        <c:auto val="1"/>
        <c:lblAlgn val="ctr"/>
        <c:lblOffset val="100"/>
        <c:noMultiLvlLbl val="0"/>
      </c:catAx>
      <c:valAx>
        <c:axId val="26323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85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6D1-BAD9-4EB7-8D37-832BFA30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C75-E08E-4D9C-BF9B-F2FAF1A4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B96-233F-45CC-A9EE-A1C72235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FA7-555F-4B59-8E4F-9785787B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7FA-A6BC-4CCA-8FBC-AF19FD8E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200-801D-4C32-B7FA-B44F22DA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9CC-7CFF-4082-9ED6-165EC0A5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549-0744-4FAA-BB62-F783AA4B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4BD3-1227-4939-B156-68ABC968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B95-AD5E-42B1-AA0F-37AD77C3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CDC-2ED6-4551-BAFE-90CB41FA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0F73-C1D7-457E-9027-72C91C75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FCA06-7366-4FFD-ACCD-87BA71EEB1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