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3310"/>
        <c:axId val="89937757"/>
      </c:barChart>
      <c:catAx>
        <c:axId val="6073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37757"/>
        <c:crosses val="autoZero"/>
        <c:auto val="1"/>
        <c:lblAlgn val="ctr"/>
        <c:lblOffset val="100"/>
        <c:noMultiLvlLbl val="0"/>
      </c:catAx>
      <c:valAx>
        <c:axId val="89937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08F-242A-4D4F-AC5B-D1DA2DB8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165-9D23-4ACA-B10B-4E5EB8FB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47A-7782-4F0D-B36C-870AA939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52F-206D-4604-9D1E-3127B0FE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BB6-3235-418C-BDCA-66E75623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F3D-E780-4812-BB37-9278E41F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07B-0C1A-497C-A881-6E99BFC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4D8-F35F-4C93-BC23-E5358134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6C2-5A37-4341-BB85-75AC2C0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9DE-B3D6-4C42-837C-88AEB90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A30-D4DF-4C47-AF9D-C613382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B3A-E660-40BD-B972-98220715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B5549-4878-49C9-9D5B-5994AC196D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