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007726"/>
        <c:axId val="26728350"/>
      </c:barChart>
      <c:catAx>
        <c:axId val="200077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728350"/>
        <c:crosses val="autoZero"/>
        <c:auto val="1"/>
        <c:lblAlgn val="ctr"/>
        <c:lblOffset val="100"/>
        <c:noMultiLvlLbl val="0"/>
      </c:catAx>
      <c:valAx>
        <c:axId val="267283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0077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B179-FF60-400D-9ACF-6249F0FA0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D8F7-F1D3-4495-B072-7B1CC786D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0A76-5D47-4CF1-9772-57EE039DD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AA35-42D0-4C3B-B148-FB6A5DCE5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3AD5-BE8F-4A0B-800C-0E407BF20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1643-CCBA-4960-ADEC-1AC6CD4FC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8DC6-A26B-4122-8D7E-93D7A513A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95B3-B092-47EE-A480-6B43000CB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70F3-0D81-4DDA-8729-FDE2352E7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1B4C-9C27-4D84-9514-B8A7C50DE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C7F7-534D-44A7-B10D-895E64F5D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D053-1539-4057-86B4-A3DEE6B6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A205BD-6CA0-42D6-819E-4F506D72B80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