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35345"/>
        <c:axId val="87087326"/>
      </c:barChart>
      <c:catAx>
        <c:axId val="69035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7326"/>
        <c:crosses val="autoZero"/>
        <c:auto val="1"/>
        <c:lblAlgn val="ctr"/>
        <c:lblOffset val="100"/>
        <c:noMultiLvlLbl val="0"/>
      </c:catAx>
      <c:valAx>
        <c:axId val="87087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35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579-4DDF-443E-B981-0FA5276F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C57-52AF-424F-9FB8-A58F352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E38-A852-4966-BF11-7DF49BB1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B18-B803-4FF9-8D61-95224D7F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CC8-47DB-40D0-9000-F249638F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09D-3B71-4826-82CD-53A18346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233-F390-4CA3-AEB3-CCD8A738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11A-4BFC-4A1C-BD8E-D1EDFCF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0D9-A9C8-4BB8-93CD-F7C54DD8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988-8C85-4797-859A-17A4C44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9CD-41E5-4AAC-B683-4B6AC7DA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E9B-904E-4B76-9904-6BC2240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A4881-4C8C-4367-BA1C-4C6C91EFF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