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53407"/>
        <c:axId val="22658082"/>
      </c:barChart>
      <c:catAx>
        <c:axId val="651534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58082"/>
        <c:crosses val="autoZero"/>
        <c:auto val="1"/>
        <c:lblAlgn val="ctr"/>
        <c:lblOffset val="100"/>
        <c:noMultiLvlLbl val="0"/>
      </c:catAx>
      <c:valAx>
        <c:axId val="22658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534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E75-BF05-4C55-8474-9271EF81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8EE-56F4-42AB-B0D5-595FA19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DCA-04B9-4CE0-B6BF-DE1E224E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31A-22BA-4EB4-A69D-2A110501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043-887C-41FE-A209-BA4E7A1B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09F-664D-4F13-873C-CA28D3F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44B-6A40-4B0F-8091-45EF2B5C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42E-F52C-4E98-923B-A52D58AF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7F0-133D-4D0B-9396-0C585BE8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672-16E6-4EF5-9AD0-E4A9C3FC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85A-5DFC-42BB-98CF-0D14F1C0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CC6-1EF4-441A-95D7-8B918D6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01807-E135-4479-B1BB-C63C9DE5CA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