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76707"/>
        <c:axId val="7655605"/>
      </c:barChart>
      <c:catAx>
        <c:axId val="34176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5605"/>
        <c:crosses val="autoZero"/>
        <c:auto val="1"/>
        <c:lblAlgn val="ctr"/>
        <c:lblOffset val="100"/>
        <c:noMultiLvlLbl val="0"/>
      </c:catAx>
      <c:valAx>
        <c:axId val="7655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76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E23-0D54-4E85-A05A-DB08665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432-5B8E-4686-A604-68A75D6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2FF-AF37-45C6-8E75-F5AF1A9F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D71-B907-4B91-A1E8-E06176EA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9BA-EEF5-435C-AD54-0A784BE0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D2D-60C8-4329-BDB6-64EEE780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FD0-938B-45CD-960E-03A18C15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473-88A3-4038-AFAB-55EED88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5CF-3B46-431F-9B68-DAE741E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C85-5D68-475D-A5B4-6FBC886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9E9-3825-4F10-B3B3-72BA076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84D-E84B-446D-B438-9D4ADD93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FC05-4ECB-417F-A023-B7D261700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