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22261"/>
        <c:axId val="98365196"/>
      </c:barChart>
      <c:catAx>
        <c:axId val="46822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5196"/>
        <c:crosses val="autoZero"/>
        <c:auto val="1"/>
        <c:lblAlgn val="ctr"/>
        <c:lblOffset val="100"/>
        <c:noMultiLvlLbl val="0"/>
      </c:catAx>
      <c:valAx>
        <c:axId val="98365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22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C8A-1AB2-4856-B6F9-9B2A3512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701-5B25-4ED5-9941-05A1E35D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4D1-4879-4F7A-A067-54D98C01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814-822A-4A7E-B6BD-E061726B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D05-DE0D-4BA6-BE34-E59B02EF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B7D8-E463-46B0-AF57-293BEC5C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818-791F-44CE-A603-9483A1C4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DD5-0368-4AFE-A5DE-B7087D76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CA7-8C4A-4D74-9A50-3E891BA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0FE-08F8-4EBB-AF1C-D512A3C1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CB6-276F-4B79-9255-0F51607B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EFAC-7E88-4FBE-BD81-E77DB86F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B0928-49A9-404E-8448-947398838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