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499045"/>
        <c:axId val="20067255"/>
      </c:barChart>
      <c:catAx>
        <c:axId val="784990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67255"/>
        <c:crosses val="autoZero"/>
        <c:auto val="1"/>
        <c:lblAlgn val="ctr"/>
        <c:lblOffset val="100"/>
        <c:noMultiLvlLbl val="0"/>
      </c:catAx>
      <c:valAx>
        <c:axId val="200672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990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52F5-B96C-4D39-A2E3-F433E4B22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FD04-13F6-48FB-90ED-4F5FAC7B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6DE3-A89F-4EE7-9855-B95970D63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10D2-954B-4E2C-A281-223E6149D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E3D3-75C3-46F9-B5AC-83170452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A71C-51E9-4080-84ED-FBEED312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0007-686D-4013-A9E0-E7823A98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A17B-30A1-4F47-B324-F1DA7495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429E-DD7B-43D1-AA12-0FFD07AD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CFD0-062C-47A8-894B-F9E221D7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99B1-EF0A-477A-B5EB-88C150F3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7F64-A08B-4749-8F8C-C45923EE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17DF3-4354-4F70-A4FA-21BF0DA1D4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