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5038"/>
        <c:axId val="66503370"/>
      </c:barChart>
      <c:catAx>
        <c:axId val="54565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3370"/>
        <c:crosses val="autoZero"/>
        <c:auto val="1"/>
        <c:lblAlgn val="ctr"/>
        <c:lblOffset val="100"/>
        <c:noMultiLvlLbl val="0"/>
      </c:catAx>
      <c:valAx>
        <c:axId val="66503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5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BEB-D9A2-4E83-BF86-BBEE1969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85D-78A4-4BF5-8B53-3776644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0C5-D543-4315-B716-AF895ED3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257-EF54-4EF0-ABB9-F97C488F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266-09B1-4E11-822F-1418D94B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581-4F69-436C-9780-CD6E7440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E4B-33F2-4438-B9B4-E292E7D4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1FF-3D69-4668-ACD3-7BD560D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9A1-0F25-4206-861C-3735EE91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8EC-BA2F-4B7C-8BEC-91C1E3E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B9E-3C03-4940-B8E4-0B5432F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308-3F85-4ADE-8AD6-85E6FEC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A53A-4F20-4158-89D6-F421BA13E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