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963234"/>
        <c:axId val="54822718"/>
      </c:barChart>
      <c:catAx>
        <c:axId val="489632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822718"/>
        <c:crosses val="autoZero"/>
        <c:auto val="1"/>
        <c:lblAlgn val="ctr"/>
        <c:lblOffset val="100"/>
        <c:noMultiLvlLbl val="0"/>
      </c:catAx>
      <c:valAx>
        <c:axId val="548227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9632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4BC6-D0CF-464E-A016-73DA95E08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0C9B-5464-451C-8971-F82804E45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20EC-E5B5-49DB-B868-7EC1A1D46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D409-A73F-43F2-899E-E851C80F2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171B-0184-41F8-82B0-C8B576F4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2B52-64E0-4C75-A261-66F36B0EF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493B-D47A-410A-9FA8-6DF738467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3340-30AF-4239-B779-2985E8CE2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7723-5751-4309-ACB1-ED279A4DD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A973-D250-4A82-96B8-8F21CA8E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A80C-53B4-4664-A839-B2DDAFC4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F7EC-4BA2-44B2-AF2F-4EC8464F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E107C2-4DF9-4FD8-8501-9208E29FA3D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