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09403"/>
        <c:axId val="3824462"/>
      </c:barChart>
      <c:catAx>
        <c:axId val="59609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4462"/>
        <c:crosses val="autoZero"/>
        <c:auto val="1"/>
        <c:lblAlgn val="ctr"/>
        <c:lblOffset val="100"/>
        <c:noMultiLvlLbl val="0"/>
      </c:catAx>
      <c:valAx>
        <c:axId val="3824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09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0A7-58DC-46BB-8D54-5AB83EAF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AFC-D1F8-43DC-9346-832B1B1B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7FD-F709-4C46-A2B0-0E364EC8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9A9-2284-48F7-98F0-A1CBA8A1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C3C-93A3-4F25-A672-F78490A6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74B-8262-495D-BB61-EDE4AFA7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6B0-6906-4262-B9EA-D4CEF283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CB8-E05E-4D9B-A66A-69A9F689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C31-933F-4EA5-A97D-6F4F4979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252-4B60-4BAE-900D-C882414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DBB-9CDA-4683-ACE4-6AB721C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535-6066-461C-BA70-D4DDA5B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D65F5-8E52-4DA1-BE7F-84E7419075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