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16474"/>
        <c:axId val="70959786"/>
      </c:barChart>
      <c:catAx>
        <c:axId val="18316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59786"/>
        <c:crosses val="autoZero"/>
        <c:auto val="1"/>
        <c:lblAlgn val="ctr"/>
        <c:lblOffset val="100"/>
        <c:noMultiLvlLbl val="0"/>
      </c:catAx>
      <c:valAx>
        <c:axId val="709597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16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BB4-CB45-46C3-ADFA-B1952953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50D-9CAA-4B6C-9DE7-FA8EB6CB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A76-E48E-4F22-BA74-0F8B5F44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919-4C93-492D-B8E7-304D87C5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0EF-8124-48F5-BCA8-1E3EE5EF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198-45EA-4339-A1F8-89C34BB8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34B-F08E-46D1-B746-9501A740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CEF-BD89-4059-9F36-C6CBF960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ADB-0F7C-41F2-B88C-8E99453F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D21-F451-4BA6-B877-4FCBE794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A0B-5518-441D-8162-D56129B8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6BB2-D62B-40B9-9FBE-1C0CECA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5C7B2-DA73-4884-8438-7C02A2435B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