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69022"/>
        <c:axId val="82049685"/>
      </c:barChart>
      <c:catAx>
        <c:axId val="37569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49685"/>
        <c:crosses val="autoZero"/>
        <c:auto val="1"/>
        <c:lblAlgn val="ctr"/>
        <c:lblOffset val="100"/>
        <c:noMultiLvlLbl val="0"/>
      </c:catAx>
      <c:valAx>
        <c:axId val="82049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69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EE5-0C24-4939-B82A-6A5A3A99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395-9814-4460-BBCD-8EC59C2A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BB5-8DB6-4681-AFB1-B241F2AA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CBF-AB39-4118-B615-7DB25D7D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CB4-8226-4E55-8937-EEAD8096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2B8-FECE-43B6-8167-45199832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F4B-35DD-4064-9CD7-3BCDD9D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B36-31CD-4580-AFA0-4293E9C7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35C-2CAD-48FA-BAEB-17E1A1F9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B54-24EA-4E30-9E4A-A57F58E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639-2FD3-4216-97FD-0A9734DB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55F-F12F-4381-AD7C-FB5D070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95656-5CA4-4DC6-AB51-0272CFC033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