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14388"/>
        <c:axId val="82508148"/>
      </c:barChart>
      <c:catAx>
        <c:axId val="33614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8148"/>
        <c:crosses val="autoZero"/>
        <c:auto val="1"/>
        <c:lblAlgn val="ctr"/>
        <c:lblOffset val="100"/>
        <c:noMultiLvlLbl val="0"/>
      </c:catAx>
      <c:valAx>
        <c:axId val="82508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4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6EE-0EC9-4EE0-95E3-39A55EEE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514-D0CF-415C-A648-CA33FDBA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9B3-D655-4AB5-B513-C45F011F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478-BE06-48B0-B31F-E8689B92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6EB-0A6C-4161-A0AC-D71F0C9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51C-03AB-488F-9868-A2E6B868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1FD-9A4D-4833-AEB4-1CD2E8AB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215-6B62-4A4D-A3AC-180064E3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20F-F8AF-4216-94F2-F8AC681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662-2D3E-43D0-8AE0-C6B08E2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5F6-6E05-4B0D-9D3D-A783379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74E-ED62-417E-9F42-DE927BCA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33BC4-148A-4EB4-9148-7DB0C384FE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