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03027"/>
        <c:axId val="97372698"/>
      </c:barChart>
      <c:catAx>
        <c:axId val="46603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2698"/>
        <c:crosses val="autoZero"/>
        <c:auto val="1"/>
        <c:lblAlgn val="ctr"/>
        <c:lblOffset val="100"/>
        <c:noMultiLvlLbl val="0"/>
      </c:catAx>
      <c:valAx>
        <c:axId val="97372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3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A18-0289-4E5F-A182-EC51F273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049-B890-4AF1-991A-19F9B6D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A1D-59B3-4E26-9CE2-69CC6E6E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848-DA88-434A-8BAD-912BA1B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F2A-957F-425A-AEE0-5A42D5EE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4E0-B4FC-4710-96BB-A5F75F5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880-5C7E-4BB1-A5D9-40A02AE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49E-30FE-4F54-A0B1-FF8CBF6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96D-DC25-453F-9FE9-F3B1364D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5D7-144A-4DC9-B7C0-4B2CAB4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804-0AEA-44C4-9947-B061D1D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68E-D729-48BB-B174-B51C028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CB300-8E02-48FB-8B4F-0CBF89A41B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