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65509"/>
        <c:axId val="93878186"/>
      </c:barChart>
      <c:catAx>
        <c:axId val="75465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78186"/>
        <c:crosses val="autoZero"/>
        <c:auto val="1"/>
        <c:lblAlgn val="ctr"/>
        <c:lblOffset val="100"/>
        <c:noMultiLvlLbl val="0"/>
      </c:catAx>
      <c:valAx>
        <c:axId val="93878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65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BDF-497A-401A-87D7-50170AA3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61E-F1E9-4E0D-B04D-F55AAF93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C78-C480-4221-B19B-3E9CC162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BC9-263F-453B-8A3D-20499BE4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8E0-F3D8-4BAA-B1C4-F82800B0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51F-7917-4F07-A8D3-8C7929DE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3A0-1E3B-4795-AC3A-7BD9628D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8FE-918E-4F2D-91DD-E3590835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BFA-E95A-4925-92B6-776BFE57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F1B-0A1C-4CD1-AB27-39F7ADB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32C-A95D-4A0A-AF50-0F471A71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738-9A97-4AA3-A52F-7389449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39F2E-78FB-42D4-BDE6-29E40252BC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