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421"/>
        <c:axId val="61921568"/>
      </c:barChart>
      <c:catAx>
        <c:axId val="941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21568"/>
        <c:crosses val="autoZero"/>
        <c:auto val="1"/>
        <c:lblAlgn val="ctr"/>
        <c:lblOffset val="100"/>
        <c:noMultiLvlLbl val="0"/>
      </c:catAx>
      <c:valAx>
        <c:axId val="61921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758-5FBA-4B4D-B409-99D2C3F8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7CF-EBE9-4667-8465-533CC107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C30-D5F1-4C21-9A67-BF08844A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B8A-D648-4F5D-9FCC-E516CBED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A72-A4E7-49C2-9FC2-E40110AC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698-4542-4BC2-926E-134D497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4C4-4A68-43E5-A5E5-537FEE2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1F8-F3D3-4DB9-BF59-A9FC1FB8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8B7-6A04-4A3A-BCF8-FC3E1E0D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A24-8B86-4CC7-8927-FEE977B2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9B8-2C3D-40A7-AB35-C4B44DFF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EDE-C59F-4AF5-86CA-F8F9553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B8CFC-800E-4A81-AC6B-435D77A3D8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