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97012"/>
        <c:axId val="32928890"/>
      </c:barChart>
      <c:catAx>
        <c:axId val="82997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28890"/>
        <c:crosses val="autoZero"/>
        <c:auto val="1"/>
        <c:lblAlgn val="ctr"/>
        <c:lblOffset val="100"/>
        <c:noMultiLvlLbl val="0"/>
      </c:catAx>
      <c:valAx>
        <c:axId val="32928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7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A1B-2DD3-4784-BDE1-4ED80ED4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7D0-26E8-4213-B669-0E7EE6C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C3E-1DE6-44F2-9BCF-1D880660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17C-AEE2-4ABB-A752-2F40E8FC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8BC-A74C-4C3B-96F9-A806B35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C45-0C6E-48D3-9EE6-0D37624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FB8-682B-4A01-B45E-F2001B50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B79-C249-4543-B4BD-2B5A2E0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1E1-F88C-49DF-84BE-6493641E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D68-93C6-4E93-8222-0C67C74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B33-F453-49BF-962C-0819021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04C-9BFA-44A9-ADD6-7220BD8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A71B3-F139-4EE4-9752-7AA398396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