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72206"/>
        <c:axId val="75448085"/>
      </c:barChart>
      <c:catAx>
        <c:axId val="66172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48085"/>
        <c:crosses val="autoZero"/>
        <c:auto val="1"/>
        <c:lblAlgn val="ctr"/>
        <c:lblOffset val="100"/>
        <c:noMultiLvlLbl val="0"/>
      </c:catAx>
      <c:valAx>
        <c:axId val="75448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72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DB8-A803-4F32-B10D-DC1BAF1A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9E9-BCA5-435D-95ED-89413056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C2E-6615-4839-BE4D-6FA730F0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E7F-30F0-4043-98A8-D0DAAE14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B85-A372-4304-86C3-2AFD0BCD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9BC-CE39-4348-BDFD-D7979789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66A-2F65-4B3F-ADB3-CC809F85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343-AFB5-4EAF-9C37-75CDCABD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C86-19ED-4C8F-891E-BEE68F5D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342-D7DA-436F-AF03-D310D85F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5FE-27FC-4184-B229-8E174F56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ECD-8168-490A-9337-D7517077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07F91-0CB5-45AB-924B-9B37B996B2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