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97184"/>
        <c:axId val="42263156"/>
      </c:barChart>
      <c:catAx>
        <c:axId val="96497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63156"/>
        <c:crosses val="autoZero"/>
        <c:auto val="1"/>
        <c:lblAlgn val="ctr"/>
        <c:lblOffset val="100"/>
        <c:noMultiLvlLbl val="0"/>
      </c:catAx>
      <c:valAx>
        <c:axId val="42263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97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B70-678C-49F5-A65D-4A377602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E6E-D273-4A7E-8122-5A9C1C87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081-587A-4421-A976-F7FFD6DB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9D3-9BC3-440E-B3FD-4F93440F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2D6-68BD-45EA-A342-FDC9C607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CC8-1C14-4284-A3D2-D7023AFF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62A-740C-4A9D-8AFF-495BD351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E8D-D041-4E47-A7CB-FE0DECE8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E35-C3BC-4C10-8615-3B0C620B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369-ACA8-48AE-9004-1C9C9688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BD9-D2D5-4100-B459-0CA96F77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C45-5320-4D45-A0EB-193941BE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3BA39-E530-4FEE-9F11-973BC8BC9B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