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64066"/>
        <c:axId val="99998756"/>
      </c:barChart>
      <c:catAx>
        <c:axId val="180640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98756"/>
        <c:crosses val="autoZero"/>
        <c:auto val="1"/>
        <c:lblAlgn val="ctr"/>
        <c:lblOffset val="100"/>
        <c:noMultiLvlLbl val="0"/>
      </c:catAx>
      <c:valAx>
        <c:axId val="99998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640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25AB-1263-405F-9185-F2EDCD35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9128-58BC-4CF7-A219-C586C577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0504-B298-4584-BEAE-2E4068F9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BEE5-F226-42A3-AB24-CDBF4B11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4D1B-AD2F-469F-BF02-864854CA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2419-68B2-4F0C-BFB8-F494F740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4EE2-635B-4F9B-872F-983364D5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65F4-4A10-4D74-8F63-06D6AF61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A856-BAEA-4C8B-900A-D2634406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9633-2649-43FF-A1A7-125A5A23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671-B0A0-44C7-B057-5623F21F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A6C5-5E8B-448E-8C3F-243736B4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1C70D-E28D-4607-918A-CFAA1D1C22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