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133232"/>
        <c:axId val="44816973"/>
      </c:barChart>
      <c:catAx>
        <c:axId val="931332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816973"/>
        <c:crosses val="autoZero"/>
        <c:auto val="1"/>
        <c:lblAlgn val="ctr"/>
        <c:lblOffset val="100"/>
        <c:noMultiLvlLbl val="0"/>
      </c:catAx>
      <c:valAx>
        <c:axId val="448169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332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D690-9F2B-4021-B66D-CFC242AC3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8047-DD26-41BC-B53F-BCF5F3B9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BD88-0422-40D1-8147-CC9C9C2E1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FAC6-3C3A-40C1-89E3-EE82C684A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4DAB-DF94-44D3-9560-D3917E19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C23D-1596-4218-82E8-F52136E9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441A-23BD-4253-ADD2-2116F1E4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ED0E-BFC7-4396-9E3E-FF65978B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5C32-89B4-4595-9474-578D4F46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BE9F-2E83-4ECA-ACD9-205615F4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1641-1CF8-49E1-BAC6-36797BCD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F09A-9181-48E9-AB34-DEAAF868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1A44A-05A5-4F7C-8B92-B49F79BEDB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