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856378"/>
        <c:axId val="9860921"/>
      </c:barChart>
      <c:catAx>
        <c:axId val="59856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0921"/>
        <c:crosses val="autoZero"/>
        <c:auto val="1"/>
        <c:lblAlgn val="ctr"/>
        <c:lblOffset val="100"/>
        <c:noMultiLvlLbl val="0"/>
      </c:catAx>
      <c:valAx>
        <c:axId val="9860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56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0009-6CE7-4443-9D12-D8F16D09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E2A-DA9D-4522-B20D-460CDFB0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D03-DFF1-43EE-A7C4-E36BA950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229-2D58-4E7B-994E-3E957DEBF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6DA-034B-47A0-BF3C-9E7B57CD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0F8-6D32-4918-96F6-FB6C04FB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7D2-D2EB-488B-B870-AE0ED726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96DF-78BC-4AC3-8EE9-06D82B0C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318-5446-44A6-8F53-6C9D6D90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006-CF19-4F1A-B610-E02A15A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86D-DBA3-480B-8E55-0454ABF8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04E-2F26-43AD-87DE-13DD14D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A79EA-D80B-4EAE-9B40-851CD550C0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