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22628"/>
        <c:axId val="68289859"/>
      </c:barChart>
      <c:catAx>
        <c:axId val="51722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9859"/>
        <c:crosses val="autoZero"/>
        <c:auto val="1"/>
        <c:lblAlgn val="ctr"/>
        <c:lblOffset val="100"/>
        <c:noMultiLvlLbl val="0"/>
      </c:catAx>
      <c:valAx>
        <c:axId val="68289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2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089-3E32-4A9B-9C4A-4D84DDC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D5B-DABC-4FAE-9C9F-EEEC0E3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4B6-AACD-41E4-BA9B-1487464D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862-7025-4D25-BABF-5E3B16A1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7DF-5E3B-4A0C-8B98-0556383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EA0-37FB-4213-803F-727744F5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FD2-2F10-4CE3-A344-9AD581E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5A7-569C-4180-BDEC-A812D91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068-274C-402E-B687-277B869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22E-C1B6-49D6-AEC2-F2D5E85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C0F-B355-4D63-AAC7-C4D94D5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158-6CAE-4F43-9892-1A671DE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80DD6-C8D6-4A14-BEA3-4E4B110EF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