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708123"/>
        <c:axId val="64917087"/>
      </c:barChart>
      <c:catAx>
        <c:axId val="237081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917087"/>
        <c:crosses val="autoZero"/>
        <c:auto val="1"/>
        <c:lblAlgn val="ctr"/>
        <c:lblOffset val="100"/>
        <c:noMultiLvlLbl val="0"/>
      </c:catAx>
      <c:valAx>
        <c:axId val="649170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7081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CFC2-DDFA-4B68-ADE9-B45D456D9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91616-435A-4C43-98B1-9FF5706B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6A03-3669-4A28-9C6A-EEEC6723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F574-29BC-4013-A4F5-3C223FD48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A4C2-0472-4A27-9940-ED7C29D12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AAE6-CA4E-4D0E-8F2D-D26FC26FD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FD89-7E82-45D8-ADDA-11F39FD75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FA18-2578-4EF3-8BE7-F6AFF3823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F7C5-90E3-446E-8E74-790ECE47A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8EB3-DFD8-4EB2-AD46-B409E33F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57C63-18AA-48C6-B463-97E6DD130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94BD-5A95-46DB-B8FC-A14BC5A4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41F96D-2C95-4AF9-A329-0C6E18B0845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