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88365"/>
        <c:axId val="13983469"/>
      </c:barChart>
      <c:catAx>
        <c:axId val="92788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83469"/>
        <c:crosses val="autoZero"/>
        <c:auto val="1"/>
        <c:lblAlgn val="ctr"/>
        <c:lblOffset val="100"/>
        <c:noMultiLvlLbl val="0"/>
      </c:catAx>
      <c:valAx>
        <c:axId val="13983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8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E2C-25F7-4489-8B87-4A687900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C35-32BA-46B5-A1E0-159F5052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F89-9337-41D8-9C35-8DCD7810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EC8-5972-48A0-8BAB-CC75A243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6A2-F3B5-492A-9092-760359D1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99E-0329-4740-89B0-4D637523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CBE-BB95-4801-9E06-C2202874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9CA-240C-4598-898A-3211CB3D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0C6-41B2-420A-B098-36E34C0D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B70-5332-498C-AC75-DFA774A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4C6-EFEF-41CB-8AEE-F1379527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C86-01B2-4569-AF75-5979147B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77F78-973A-499A-8077-21C1AD4F89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