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07790"/>
        <c:axId val="55006357"/>
      </c:barChart>
      <c:catAx>
        <c:axId val="69907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06357"/>
        <c:crosses val="autoZero"/>
        <c:auto val="1"/>
        <c:lblAlgn val="ctr"/>
        <c:lblOffset val="100"/>
        <c:noMultiLvlLbl val="0"/>
      </c:catAx>
      <c:valAx>
        <c:axId val="55006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07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AAF-8036-436C-AB08-00F02056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AA4-8AF5-4FEB-B3AA-E70908F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670-A344-4187-9E66-B235E908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DA5-62FD-46B7-9079-FD33C4BB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029-05D3-493B-8A19-9D009ACF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CA2-4CB5-4350-8C2F-1C9340FF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C7D-EEB7-42AC-8847-E0DDA140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CC7-393C-406E-B706-F4D09340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7BD-A6D1-49BC-A771-B6945A20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105-D4C4-486D-AC2F-074EDD53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EAB-63E2-48F3-8C55-2ACCA24C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393-DDFE-405F-BE21-72FFD68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FCFCA-081B-45B2-9044-80B69C08C3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