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419034"/>
        <c:axId val="46769970"/>
      </c:barChart>
      <c:catAx>
        <c:axId val="804190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69970"/>
        <c:crosses val="autoZero"/>
        <c:auto val="1"/>
        <c:lblAlgn val="ctr"/>
        <c:lblOffset val="100"/>
        <c:noMultiLvlLbl val="0"/>
      </c:catAx>
      <c:valAx>
        <c:axId val="467699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190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C205-87EE-4DD0-A016-DB9BD6F3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D8F6-7479-4F4E-930F-DBC9D0AB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579A-DEF0-4037-8AAA-C2DA2594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B0EF-0238-4329-B865-586111D6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922A-81C3-4221-A586-D8FEA81E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40C3-1FBE-43B1-9474-195E248B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C562-B8DE-4E9A-8DA0-2401924C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C94-D0EA-4AE1-B369-5C88D38B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CA14-FC2D-4309-AC56-8478F8AE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59D9-EB47-4B21-9C2B-03FD9338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048E-4C81-4C64-B827-B79E7E7F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3D2D-E561-47C0-AA71-5BE119D2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42BF5-73D5-4EA8-9187-A3060BF6EE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