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983443"/>
        <c:axId val="35279086"/>
      </c:barChart>
      <c:catAx>
        <c:axId val="879834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79086"/>
        <c:crosses val="autoZero"/>
        <c:auto val="1"/>
        <c:lblAlgn val="ctr"/>
        <c:lblOffset val="100"/>
        <c:noMultiLvlLbl val="0"/>
      </c:catAx>
      <c:valAx>
        <c:axId val="352790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834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CFB4-0A57-4A6E-9E7B-227B35A2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6AF-5CD4-4477-9A1F-3D03C8CB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1CD5-CB94-4E3F-8D76-C7735C72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F8B-4B6B-4DD5-A03C-F1D15C1D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5044-7B58-4171-8D11-A20348D0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8E5F-D80A-4C12-857C-3F163471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B717-2135-4332-A603-C6D5FF72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F44C-D6E0-4183-9430-402709BB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4EE0-24B5-4C2C-B6B6-8C4E9DA8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0A3-4C09-46EB-A86E-387EFB27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3407-BB56-407F-9251-A33B5E80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586-3706-41D6-AECA-306D2B21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5FC626-6468-4886-991D-AF22C94340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