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10820"/>
        <c:axId val="13778032"/>
      </c:barChart>
      <c:catAx>
        <c:axId val="90710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78032"/>
        <c:crosses val="autoZero"/>
        <c:auto val="1"/>
        <c:lblAlgn val="ctr"/>
        <c:lblOffset val="100"/>
        <c:noMultiLvlLbl val="0"/>
      </c:catAx>
      <c:valAx>
        <c:axId val="137780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10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59E-C053-447D-9BBA-E1D7BBB9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B48C-2C9F-4B06-9005-48ED344A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4B8-019F-4BCB-83C7-F91E18EB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FEB-7F83-40F3-B09D-7DDB6CFA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7E2-8D47-4B5E-BB15-D6ABC052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461-58C1-48B1-8D0B-CA9AFA2D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76D-ABFC-44CE-9F45-2B08EF4A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7E9-113F-4562-BFB7-D37DF64C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80D-61EB-4B9C-84CF-6233113F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17A-E1CA-4818-B4F9-727EB2EF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D31-48E2-4624-BA56-89DECBCA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03FB-B677-4D20-852B-80F31E7E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271B3-EE1F-44A7-8C08-03EC9682FC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