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012926"/>
        <c:axId val="90646989"/>
      </c:barChart>
      <c:catAx>
        <c:axId val="740129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646989"/>
        <c:crosses val="autoZero"/>
        <c:auto val="1"/>
        <c:lblAlgn val="ctr"/>
        <c:lblOffset val="100"/>
        <c:noMultiLvlLbl val="0"/>
      </c:catAx>
      <c:valAx>
        <c:axId val="906469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0129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2D54-30F7-4F01-8D1E-421D1BC13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6F09-C7C6-4E4B-A1A1-9D5AE7EF6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18DD-B62B-4F5D-93EA-A66B141A6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8F15-A9A7-4DA4-AF20-5EAB318EE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AF4D-F930-47F5-9472-CBC6124B3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B2ED-B381-4C38-BE0E-28DAE099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DAF7-EE22-45F0-9117-C0705393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7044-C7AD-4C5E-90D0-EED5DDD4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382A-078E-4B80-89D8-B6015E9C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8DC8-5382-41F5-980A-2161E7061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C8BA-92A3-4692-8890-73E62AF4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3AEC-B8A4-402E-8862-FA1D4FA13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6F267D-84EA-4BAC-B88A-062A2CEBA6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