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31758"/>
        <c:axId val="80015577"/>
      </c:barChart>
      <c:catAx>
        <c:axId val="82631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5577"/>
        <c:crosses val="autoZero"/>
        <c:auto val="1"/>
        <c:lblAlgn val="ctr"/>
        <c:lblOffset val="100"/>
        <c:noMultiLvlLbl val="0"/>
      </c:catAx>
      <c:valAx>
        <c:axId val="80015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31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30B-E273-425C-81C1-849ADDCA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74F-88D9-42D2-BE83-8BDE4FDD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CCE-2D39-4C62-B5B3-D4826894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81C-04AA-46DB-BD28-484DB9D5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F4A-BFD4-41D5-B9C6-1489E6F7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779-134E-40DE-8EA3-5C2DEA31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28A-1C16-4C80-92B6-777E5250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B17-66A0-4780-B43F-8217E5FB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E6A-7147-4026-BFED-884BB58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230-CB77-4658-89D0-E760148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37C-1399-4465-8F2D-08901365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284-BD03-4591-9A47-A46D234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8D8D7-6EEF-483E-8279-C8B9FED20F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