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18635"/>
        <c:axId val="14663067"/>
      </c:barChart>
      <c:catAx>
        <c:axId val="90618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63067"/>
        <c:crosses val="autoZero"/>
        <c:auto val="1"/>
        <c:lblAlgn val="ctr"/>
        <c:lblOffset val="100"/>
        <c:noMultiLvlLbl val="0"/>
      </c:catAx>
      <c:valAx>
        <c:axId val="14663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18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B53-5EEB-47F3-9E57-6AB5D9E1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9B6-D0CA-4761-924F-CC0564FC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74C-AF05-4E14-B5CF-60F2CCD9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A23-8F09-43D6-BBFD-F9A79835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032-F2B0-406A-8D10-6848A817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23F-2616-439C-86CD-104BF8A5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BD8-F6D2-462B-B875-2C0692B1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F27-FE74-4266-9819-F066BCF7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9CF-612E-4531-BA80-0F95C45C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CE4-8EB4-4219-B40F-FB93C63F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2FF-7361-4F1A-A50E-657D1857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14C-BCA2-4D2E-A986-72E6FAEB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F2DB7-1C0E-41CC-BABC-C8A98BD173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