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31456"/>
        <c:axId val="8204896"/>
      </c:barChart>
      <c:catAx>
        <c:axId val="23931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896"/>
        <c:crosses val="autoZero"/>
        <c:auto val="1"/>
        <c:lblAlgn val="ctr"/>
        <c:lblOffset val="100"/>
        <c:noMultiLvlLbl val="0"/>
      </c:catAx>
      <c:valAx>
        <c:axId val="8204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31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1A2-3BD9-4028-BD19-04063E2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BEF-A2BB-454B-9DF0-9FBA367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A39-CDE6-4775-9BAD-DBB3DEB4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9F4-F1A1-41A7-87B9-804C9423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453-DDD2-4C7D-97F0-C2B20F7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9B3-4660-4576-9772-8BB3283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8D9-2DDD-4E2F-A7AE-C51CF4C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928-C8A8-427F-BF58-AE3A29FE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5D4-3755-4C8C-A61F-A870BEA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36B-0B38-4097-9550-34C688C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99B-B045-41E3-9F0F-8B11778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8AD-2EBD-4FA8-B5E0-EC1EFB6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339C7-94F3-4964-B477-B978A53EC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