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5233"/>
        <c:axId val="1896189"/>
      </c:barChart>
      <c:catAx>
        <c:axId val="76735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189"/>
        <c:crosses val="autoZero"/>
        <c:auto val="1"/>
        <c:lblAlgn val="ctr"/>
        <c:lblOffset val="100"/>
        <c:noMultiLvlLbl val="0"/>
      </c:catAx>
      <c:valAx>
        <c:axId val="1896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5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D29-F68B-4787-9943-2613FC87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521-C749-4362-B04D-C907003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A9F-47F1-47DD-AF07-D488C63C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83B-DEF3-42D8-9F9F-0CB0D8D2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E93-23A4-439E-BB44-86F9B72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73D-F7F7-49E9-AD8D-D0EA06BC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D67-3A6D-4B73-A350-D53809D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B94-7668-4CEF-BB1A-E549355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479-EAC3-4F70-91DE-906F636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7AD-A62E-4CDB-848E-3D44358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053-DB77-45AD-A648-0B5CF9F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DD0-5E18-4CA0-B574-F06968A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4882-4B7F-4F16-BD3F-DC451C774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