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27800"/>
        <c:axId val="23314364"/>
      </c:barChart>
      <c:catAx>
        <c:axId val="13927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14364"/>
        <c:crosses val="autoZero"/>
        <c:auto val="1"/>
        <c:lblAlgn val="ctr"/>
        <c:lblOffset val="100"/>
        <c:noMultiLvlLbl val="0"/>
      </c:catAx>
      <c:valAx>
        <c:axId val="23314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7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115-049D-49F6-B9D8-CF7113C8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AB5-EF52-41EF-BB8A-62C65D40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B67-AB24-44B3-A4F4-98C9B0D4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FAE-9FDB-4F70-958F-E476995D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BE0-7321-4E97-BEDF-5D94534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F9B-932A-4B9D-9596-0258032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6C4-53DB-43FA-8D1F-B620A32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604-1FDF-461B-8FC0-463DB6B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3FC-19E1-4D6C-8A18-44DF9924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FC5-9E35-4C38-B2EF-2B52576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2A-9253-4E93-96C0-286DCF7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E87-D5FE-4C2D-9389-2451667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CEB1D-4236-49F6-B37F-9E9604518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