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64276"/>
        <c:axId val="49095082"/>
      </c:barChart>
      <c:catAx>
        <c:axId val="52464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95082"/>
        <c:crosses val="autoZero"/>
        <c:auto val="1"/>
        <c:lblAlgn val="ctr"/>
        <c:lblOffset val="100"/>
        <c:noMultiLvlLbl val="0"/>
      </c:catAx>
      <c:valAx>
        <c:axId val="49095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64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CC3D-1838-4C41-B563-03F39DF2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48E-95BB-426C-B4EC-48E802C1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DDE-F74B-4856-9D40-9968A047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CB32-EB4C-4969-B918-EF188366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018B-38FE-4FFF-AA37-D6D547DE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7937-D9D1-4E06-897B-CCE0DD84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F27-DC0F-4181-AEE4-DAFF4C8C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E9B5-63E9-47E9-B49C-6C622F18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701-138E-4A27-8EC6-3622C4CD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B47D-D9B0-4B46-AC70-E1477F66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BC96-E426-40C4-973B-07E6D0B4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E9A6-1949-444C-A0C8-A55C1021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C05CF-E6D3-4ED6-AA84-02547E992D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