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45956"/>
        <c:axId val="97805887"/>
      </c:barChart>
      <c:catAx>
        <c:axId val="798459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05887"/>
        <c:crosses val="autoZero"/>
        <c:auto val="1"/>
        <c:lblAlgn val="ctr"/>
        <c:lblOffset val="100"/>
        <c:noMultiLvlLbl val="0"/>
      </c:catAx>
      <c:valAx>
        <c:axId val="97805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459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454-720D-46E9-A1CA-2B6D1F143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0FCA-4DFB-45C0-84C8-585FBCE2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0E3-0E7D-41B7-AA17-8C4FE400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DE3-7B74-4C8E-BC29-863F39E86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3B9-60AF-4FA6-8451-1E00FC95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FE9-567D-4727-871A-0B0AEB6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6BC3-0AE4-4543-B840-D413207C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927-3276-4124-A08F-7278C4D1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CBF-713A-4504-9519-EB186822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B877-2662-4599-B070-E387A0ED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2D7-C999-48DA-B9D0-2412399E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757A-37D8-441E-A7DA-B91F2155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6D096-2B03-44FB-B10B-C1E066B320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