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86112"/>
        <c:axId val="32854567"/>
      </c:barChart>
      <c:catAx>
        <c:axId val="81786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4567"/>
        <c:crosses val="autoZero"/>
        <c:auto val="1"/>
        <c:lblAlgn val="ctr"/>
        <c:lblOffset val="100"/>
        <c:noMultiLvlLbl val="0"/>
      </c:catAx>
      <c:valAx>
        <c:axId val="32854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6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B7B-9B1E-4CE5-BFBD-394F8EB4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BF8-560C-4097-8F9A-E44D1AC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10A-F8AB-4958-80C6-33BFAC07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7BA-4755-4BDF-A446-BD0B7648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CE5-7132-43BF-B211-E7DBD4A5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502-261A-4D26-9D37-1D7F514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151-4DD0-4A86-A37A-050D55C7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04F-A374-4B28-BB79-17A13E1A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12C-A235-46E7-89D5-159B2A33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A69-4ADB-4F2A-857F-46EAD8F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2D7-DE08-4FF7-803F-B8B76B9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150-CE26-4EA2-BCA0-2746455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D88F2-2F26-4EC9-8FC4-395DCD5040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