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16087"/>
        <c:axId val="35183511"/>
      </c:barChart>
      <c:catAx>
        <c:axId val="39316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3511"/>
        <c:crosses val="autoZero"/>
        <c:auto val="1"/>
        <c:lblAlgn val="ctr"/>
        <c:lblOffset val="100"/>
        <c:noMultiLvlLbl val="0"/>
      </c:catAx>
      <c:valAx>
        <c:axId val="35183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16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72F-578F-443E-B4BB-3BB7E5D2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FB7-2DAD-4CF1-828D-83ED1C1D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F9B-E5D4-449E-840E-E429F295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6AA-0B9D-4DED-B713-BE0F966A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4B6-D53F-41B3-A115-16FCFD79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D6A-FDAF-43D1-83E9-3B519436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EA5-4E40-43F3-8EEC-F643228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000-5A99-4223-A055-37FAB03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50C-EA27-40C2-826E-4C6BD17B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7CF-C220-454B-9B73-60C4A4F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5CF-6F53-411D-8841-F5C06A5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CE2-27E5-4292-96BE-126A515C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BB6E3-FD09-4F29-BFDC-5CE57DD52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