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66388"/>
        <c:axId val="39237001"/>
      </c:barChart>
      <c:catAx>
        <c:axId val="29566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37001"/>
        <c:crosses val="autoZero"/>
        <c:auto val="1"/>
        <c:lblAlgn val="ctr"/>
        <c:lblOffset val="100"/>
        <c:noMultiLvlLbl val="0"/>
      </c:catAx>
      <c:valAx>
        <c:axId val="39237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66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B8D-E6E9-49C6-821E-C13804B8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09A-8EFD-4F00-9BFB-AC0E8550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145-B8AE-4114-9199-3E74665B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BFA-E007-434D-8E7F-4429A978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C34-5B19-4C67-80D5-CB14FFE0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6A6-AEF1-49A3-9616-756771F3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3F1-1242-4717-8DC3-0C3D6535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817-385C-4A44-ACF3-CCCAF800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686-9A12-4084-8F69-A113D5E5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872-99EA-4E10-AF04-51289415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8F5-4A75-4A84-BDFD-15A913FB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C88-5125-401D-AE1C-3FFF2546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5C3CD-F37D-40CA-B93B-03B94562A7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