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1001"/>
        <c:axId val="20298"/>
      </c:barChart>
      <c:catAx>
        <c:axId val="38721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8"/>
        <c:crosses val="autoZero"/>
        <c:auto val="1"/>
        <c:lblAlgn val="ctr"/>
        <c:lblOffset val="100"/>
        <c:noMultiLvlLbl val="0"/>
      </c:catAx>
      <c:valAx>
        <c:axId val="20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1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846-DA8C-42C4-A57C-9E1A8D4C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136-9614-4F02-815D-CF0AEA35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D50-8F4D-41D0-BD1F-3448EE5A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0C4-10A4-46B6-8466-935B36FE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76F-B425-4877-A6B4-91D1B1E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810-E19E-47BB-B53C-DCA5A1D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7F4-BE7C-4C26-9C0F-9C33801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927-7882-4F85-914D-0162F54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D9E-1EE3-4E04-B99D-E44588D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DDA-AE4C-4CBB-A2A8-256A470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9FD-E3E8-437C-BEDD-23FC904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504-1C11-4F80-8196-DF6774F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BB2B-1E79-4731-A7F8-965F0E861D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