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22732"/>
        <c:axId val="75278212"/>
      </c:barChart>
      <c:catAx>
        <c:axId val="51222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78212"/>
        <c:crosses val="autoZero"/>
        <c:auto val="1"/>
        <c:lblAlgn val="ctr"/>
        <c:lblOffset val="100"/>
        <c:noMultiLvlLbl val="0"/>
      </c:catAx>
      <c:valAx>
        <c:axId val="75278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22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C4E-141E-405B-BEB2-0A67C5C9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B9D-C174-41E6-8572-D8F56CB2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BB3-97A3-437F-91D5-BBCF1560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221-371A-4906-86B5-B18CC5E7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F0E-F509-433C-8EE6-1DA7D6B3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07B-4A4E-4170-830E-995621E9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CFF-14DF-42E5-B2B5-97DD311A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5B5-4712-4E13-B9AB-1F1F3C3C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05E-ED00-49A5-9329-B335CD02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F4B-4714-49BF-A034-215E8C5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D5F-6CD0-462E-953A-09466F67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546-F12A-451F-9BD0-B6B7E0B5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48F17-E92C-4E36-8454-196E09C0A0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