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77891"/>
        <c:axId val="63838994"/>
      </c:barChart>
      <c:catAx>
        <c:axId val="61477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38994"/>
        <c:crosses val="autoZero"/>
        <c:auto val="1"/>
        <c:lblAlgn val="ctr"/>
        <c:lblOffset val="100"/>
        <c:noMultiLvlLbl val="0"/>
      </c:catAx>
      <c:valAx>
        <c:axId val="63838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77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3B1-218B-447B-89B9-1CE6FB9D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C96-7500-4203-B2B8-A9DD25F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633-1CD2-44CE-BA9C-E5C71BE6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17D-1F63-4F7F-86AA-B2B726BE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EF1-9BD0-46E4-A491-C560C3BD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3FE-92C5-4C67-A6F1-4B80D2D4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BF3-89CD-47B6-A3A2-FB695EB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606-8510-4383-9CCF-3AE2FB0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C8A-18F0-4465-B3A9-C1BBD5C2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D6E-49A1-43C8-80FC-52B8637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3F8-BFFA-4A09-BB67-681B2796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BFD-D535-435F-BBCE-9AF3928B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EB08F-05AB-4750-8883-0622B7D51E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